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9CE-A346-4BC9-A30C-4F5D976B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159-0924-4D0A-8D11-4FF9128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655-D703-4184-A35B-79A1C500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41C-1F8D-40A5-B503-04579981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58E-DE2A-4623-A8C6-89A20E6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D71-B4B8-44E7-9BBF-B8C2769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261-4EAD-4703-B657-213CB4C9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99A-E417-454F-9C7B-AD139654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7BA-AB48-4CC7-9F9A-50FF554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31C-3FC5-43ED-8EBF-2BCD340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D9E-5D6D-40D0-8455-BC2A0A49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F6E-F8B7-4283-A47B-E122F21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E1B0-1D99-44EE-9A8F-8753CB153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ميلاد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لكلمة قد صار جسداً يا مؤمن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نصفِ الليل اتّلد ربُّ السماو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جُرمُ آدم قد مُحي بدمع الطفلِ السخ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داود قد تهلّل بوارثه الأ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يرودوس واليهود ما لكم مضطرب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فى المجوسُ إليه وقدّموا له القرا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تَفَتِ الملائكة بالرعاة الراق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ُبُّ الربِّ بادٍ نحو السُّفل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طوبى لنا فإننا فُقنا العُلْو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مريم حظيتِ بالأجمل في البن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كفاك به فخراً يا فخرَ العا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مغارة بيت لحم قد أتى بالساج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يخا قد تنبّا ولاحَ الحقُّ الم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نجم يعقوب قد بدا وأنار المظ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سرُّ الخلاص ابتدا وتمَّ قولُ النّبيّ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جيب يا إلهنا يهتفون منذه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ي المذود اضّجعت كأحقر المساك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صرتَ إنساناً لكي تفدي البشر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موا له المجد يا جميع المولو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رتِّلوا بالتهليل وحسن نظم التل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شمسُنا قد أشرقت فلنهتف قائ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مَّ الخلاصُ والوعد فنشكره كل 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12:59Z</dcterms:created>
  <dc:creator>Charbel Azar</dc:creator>
  <dc:description/>
  <dc:language>en-US</dc:language>
  <cp:lastModifiedBy>Charbel Azar</cp:lastModifiedBy>
  <dcterms:modified xsi:type="dcterms:W3CDTF">2002-12-16T12:28:13Z</dcterms:modified>
  <cp:revision>3</cp:revision>
  <dc:subject/>
  <dc:title>Slide 1</dc:title>
</cp:coreProperties>
</file>